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E69-3015-4EF4-8D67-2C49C679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7FA3-20CB-4542-8E3D-88584C16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BAE-3842-45ED-AC3D-B77763C9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34A-275F-4C55-9268-6B54C3FE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317-9CCE-4126-84D4-BD5DFFAF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310-75E5-4505-83C5-34D02E4E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82E-4952-4D93-B32D-92694771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CA2-7408-4EF7-AA1C-3C7A1913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CEF-7584-4A94-A822-1E1B2DCE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FFA6-7E53-434B-A784-8BE94490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065-F931-4810-A67E-1A3F398C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7EB-B6C7-4447-99E1-D4D519DE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8F37-8E4C-4286-B330-3EB1AD638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62160" y="3105000"/>
            <a:ext cx="481968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3</cp:lastModifiedBy>
  <dcterms:modified xsi:type="dcterms:W3CDTF">2012-06-18T11:35:41Z</dcterms:modified>
  <cp:revision>2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